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9.wmf" ContentType="image/x-wmf"/>
  <Override PartName="/ppt/media/image7.png" ContentType="image/png"/>
  <Override PartName="/ppt/media/image11.wmf" ContentType="image/x-wmf"/>
  <Override PartName="/ppt/media/image4.png" ContentType="image/png"/>
  <Override PartName="/ppt/media/image12.wmf" ContentType="image/x-wmf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7EE4-900B-4D27-8590-1CFE257A4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4FB2-4D90-4647-B00D-8CAA3140C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B131-8923-4334-A6B4-77947C8B8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8013-A9AA-4BF9-8837-EA493B2C3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1B267-3570-4805-8F1F-9F8615545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4FC0E-2491-4725-ADDB-D242DC32E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138B8-78AB-4C86-8978-20901EA08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F9C1E-671F-4BA0-8172-E19F19BDF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5F677-9088-45D1-AC85-5FA49F1DD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11E29-F3C8-4003-9BC4-BFD31725E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650EE-76F6-4765-B808-F88192562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0190-F4C2-45FB-BE1A-459A97B42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C0C0E-921A-4CE1-851A-D38152AE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02B26-FC76-4AA8-B950-6085557EE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577E3-D888-496B-ACD2-DC3A12024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3339A-ECBD-45D5-9CA2-127B6D01C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8E0AC-D00D-41C2-852E-E2E531820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305A5-6EC2-4E45-B02C-F0ED6AC57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B1565-E9DE-4B15-97CF-63359F94F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DFB34-10FD-4492-9F1A-9AC68C397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F1817-4A03-4264-A57C-5EDF26403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A720B-6B95-4478-8F43-262B05370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2899-C06A-41E1-A18B-99E7C5759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9CDEA-259A-425D-A852-D7C7760DE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0D50F-1207-4761-94EA-0380EB90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55AE2-9D29-452E-897A-3A7983DDA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F6BD7-2E95-4485-861D-08C3A9D2C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5C19B-905A-4B48-83F4-78110155B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E6EB5-2E17-43FD-9902-0C6D45BEA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CE222-77E6-4862-9331-1B24B6B5E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7E06-85AD-4612-853E-110A1ABCC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F26C-60A2-4946-823A-3CB1B890B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135E-48C9-442C-9E1D-8F5048F6C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3589-CE95-42FA-A84B-8A1B4C8E7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D10D-332E-4060-A507-821AA660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B75D-A541-4EAA-AB05-7D0B2F6B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d0dae2"/>
            </a:gs>
            <a:gs pos="100000">
              <a:srgbClr val="99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c4cdd5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FC8B3-5906-41E7-A122-974B136A84A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d0dae2"/>
            </a:gs>
            <a:gs pos="100000">
              <a:srgbClr val="99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88F94-A01E-44CD-B6BA-ACEA6A4393F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d0dae2"/>
            </a:gs>
            <a:gs pos="100000">
              <a:srgbClr val="99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86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b0b9bf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CE1DB-D71D-4D27-8055-925F00A129C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5640" y="1413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ahoma"/>
              </a:rPr>
              <a:t>Кто такой потребител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403280" y="3499920"/>
            <a:ext cx="6400800" cy="24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оном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ь МОУ «СОШ №56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. Новокузнец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уравьева Марина Игор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j0149481"/>
          <p:cNvPicPr/>
          <p:nvPr/>
        </p:nvPicPr>
        <p:blipFill>
          <a:blip r:embed="rId1"/>
          <a:stretch/>
        </p:blipFill>
        <p:spPr>
          <a:xfrm>
            <a:off x="6443640" y="260280"/>
            <a:ext cx="2144880" cy="21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Заполним таблицу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79280" y="907920"/>
          <a:ext cx="8964720" cy="5761080"/>
        </p:xfrm>
        <a:graphic>
          <a:graphicData uri="http://schemas.openxmlformats.org/drawingml/2006/table">
            <a:tbl>
              <a:tblPr/>
              <a:tblGrid>
                <a:gridCol w="2989440"/>
                <a:gridCol w="2985840"/>
                <a:gridCol w="29894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ид потреб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особ удовлетво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овар или услу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 Физиологические потребности (еда, вода, одежда, жилье, воспроизведение рода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 Социальные потребности (потребность в любви, дружбе, общении с людьми, имеющими те же интересы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Text Box 59"/>
          <p:cNvSpPr/>
          <p:nvPr/>
        </p:nvSpPr>
        <p:spPr>
          <a:xfrm>
            <a:off x="2987640" y="5013360"/>
            <a:ext cx="39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Text Box 60"/>
          <p:cNvSpPr/>
          <p:nvPr/>
        </p:nvSpPr>
        <p:spPr>
          <a:xfrm>
            <a:off x="3132000" y="1773360"/>
            <a:ext cx="3095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купка в магазинах пищевых продуктов, вещей, товаров для дома. Приобретение квартир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Text Box 63"/>
          <p:cNvSpPr/>
          <p:nvPr/>
        </p:nvSpPr>
        <p:spPr>
          <a:xfrm>
            <a:off x="6156360" y="1844640"/>
            <a:ext cx="316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ищевые продукты, предметы быта, одежда, квартира, мебель и др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Text Box 90"/>
          <p:cNvSpPr/>
          <p:nvPr/>
        </p:nvSpPr>
        <p:spPr>
          <a:xfrm>
            <a:off x="3203640" y="4005360"/>
            <a:ext cx="273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здание семьи. Участие в культурной и общественной жизн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Text Box 91"/>
          <p:cNvSpPr/>
          <p:nvPr/>
        </p:nvSpPr>
        <p:spPr>
          <a:xfrm>
            <a:off x="6227640" y="4005360"/>
            <a:ext cx="2916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здание собственной семьи и укрепление родительской. Формирование круга друзей и близки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179280" y="836640"/>
          <a:ext cx="8785440" cy="5832360"/>
        </p:xfrm>
        <a:graphic>
          <a:graphicData uri="http://schemas.openxmlformats.org/drawingml/2006/table">
            <a:tbl>
              <a:tblPr/>
              <a:tblGrid>
                <a:gridCol w="2805120"/>
                <a:gridCol w="3071880"/>
                <a:gridCol w="290844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ид потреб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особ удовлетво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овар или услу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 Потребность в безопасности (защита от преступников и внешних врагов, защита от нищеты и помощь при болезнях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Text Box 27"/>
          <p:cNvSpPr/>
          <p:nvPr/>
        </p:nvSpPr>
        <p:spPr>
          <a:xfrm>
            <a:off x="2987640" y="1773360"/>
            <a:ext cx="3168720" cy="48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Установка различных видов защиты своего имущества, информации и права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Непосредственное участие в защите себя, родных и близких, общества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Получение рабочего места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Заполним таблицу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Text Box 31"/>
          <p:cNvSpPr/>
          <p:nvPr/>
        </p:nvSpPr>
        <p:spPr>
          <a:xfrm>
            <a:off x="5940360" y="1773360"/>
            <a:ext cx="3203640" cy="51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Металлические двери, система сигнализации, страхование имущества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Создание внутренних и внешних вооруженных сил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Оказание мед. помощи, социальной защиты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Заполним таблицу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79280" y="907920"/>
          <a:ext cx="8964720" cy="5761080"/>
        </p:xfrm>
        <a:graphic>
          <a:graphicData uri="http://schemas.openxmlformats.org/drawingml/2006/table">
            <a:tbl>
              <a:tblPr/>
              <a:tblGrid>
                <a:gridCol w="2808360"/>
                <a:gridCol w="3166920"/>
                <a:gridCol w="2989440"/>
              </a:tblGrid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ид потреб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особ удовлетво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овар или услу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 Потребность в уважении (со стороны других людей и самоуважения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 Потребность в самореализации (в развитии своих возможностей и способностей и их активном использовании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" name="Text Box 21"/>
          <p:cNvSpPr/>
          <p:nvPr/>
        </p:nvSpPr>
        <p:spPr>
          <a:xfrm>
            <a:off x="2987640" y="5013360"/>
            <a:ext cx="39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Text Box 22"/>
          <p:cNvSpPr/>
          <p:nvPr/>
        </p:nvSpPr>
        <p:spPr>
          <a:xfrm>
            <a:off x="3059280" y="1844640"/>
            <a:ext cx="309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ысокий уровень реализации себя в работе, семье, общественной деятельно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Text Box 23"/>
          <p:cNvSpPr/>
          <p:nvPr/>
        </p:nvSpPr>
        <p:spPr>
          <a:xfrm>
            <a:off x="6156360" y="1844640"/>
            <a:ext cx="316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ачественное выполнение всех жизненных прав, обязанностей и возможносте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Text Box 24"/>
          <p:cNvSpPr/>
          <p:nvPr/>
        </p:nvSpPr>
        <p:spPr>
          <a:xfrm>
            <a:off x="2987640" y="4076640"/>
            <a:ext cx="3313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лучение образования (в том числе дополнительного). Добиваться решения поставленных жизненных зада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Text Box 25"/>
          <p:cNvSpPr/>
          <p:nvPr/>
        </p:nvSpPr>
        <p:spPr>
          <a:xfrm>
            <a:off x="6227640" y="4005360"/>
            <a:ext cx="2916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учение в школе, колледже, ВУЗе. Устроиться на работу, соответствующую твоим склонностям и интереса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8640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Игра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«Волшебная палочка»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68360" y="2276280"/>
            <a:ext cx="82072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Правил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 каждого из вас есть волшебная палочка, которая может исполнить одно заветное желание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кажите чего бы вы хотели,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бязательно употребив слово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«потребители»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" name="Группа 9"/>
          <p:cNvGrpSpPr/>
          <p:nvPr/>
        </p:nvGrpSpPr>
        <p:grpSpPr>
          <a:xfrm>
            <a:off x="7862760" y="160560"/>
            <a:ext cx="1149480" cy="2620800"/>
            <a:chOff x="7862760" y="160560"/>
            <a:chExt cx="1149480" cy="2620800"/>
          </a:xfrm>
        </p:grpSpPr>
        <p:grpSp>
          <p:nvGrpSpPr>
            <p:cNvPr id="202" name="Group 9"/>
            <p:cNvGrpSpPr/>
            <p:nvPr/>
          </p:nvGrpSpPr>
          <p:grpSpPr>
            <a:xfrm>
              <a:off x="7862760" y="160560"/>
              <a:ext cx="1149480" cy="2620800"/>
              <a:chOff x="7862760" y="160560"/>
              <a:chExt cx="1149480" cy="2620800"/>
            </a:xfrm>
          </p:grpSpPr>
          <p:sp>
            <p:nvSpPr>
              <p:cNvPr id="203" name="AutoShape 7"/>
              <p:cNvSpPr/>
              <p:nvPr/>
            </p:nvSpPr>
            <p:spPr>
              <a:xfrm rot="811800">
                <a:off x="7956000" y="260280"/>
                <a:ext cx="962280" cy="914400"/>
              </a:xfrm>
              <a:prstGeom prst="pie">
                <a:avLst/>
              </a:prstGeom>
              <a:gradFill rotWithShape="0">
                <a:gsLst>
                  <a:gs pos="0">
                    <a:srgbClr val="d0dae2"/>
                  </a:gs>
                  <a:gs pos="100000">
                    <a:srgbClr val="99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  <a:effectLst>
                <a:outerShdw dist="53966" dir="13500000" blurRad="0" rotWithShape="0">
                  <a:srgbClr val="e7edf1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4" name="Line 8"/>
              <p:cNvSpPr/>
              <p:nvPr/>
            </p:nvSpPr>
            <p:spPr>
              <a:xfrm flipH="1">
                <a:off x="8101080" y="981000"/>
                <a:ext cx="288720" cy="1800360"/>
              </a:xfrm>
              <a:prstGeom prst="lin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5" name="Прямая соединительная линия 7"/>
            <p:cNvSpPr/>
            <p:nvPr/>
          </p:nvSpPr>
          <p:spPr>
            <a:xfrm flipH="1">
              <a:off x="7929720" y="928440"/>
              <a:ext cx="428400" cy="1428840"/>
            </a:xfrm>
            <a:prstGeom prst="line">
              <a:avLst/>
            </a:prstGeom>
            <a:ln w="9360">
              <a:solidFill>
                <a:srgbClr val="83b1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6" descr="j0205582"/>
          <p:cNvPicPr/>
          <p:nvPr/>
        </p:nvPicPr>
        <p:blipFill>
          <a:blip r:embed="rId1"/>
          <a:stretch/>
        </p:blipFill>
        <p:spPr>
          <a:xfrm>
            <a:off x="0" y="3573360"/>
            <a:ext cx="1944720" cy="17845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6868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еловеческие потребности безграничны, а ресурсов для их удовлетворения недостаточно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кономика должна ка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ожно лучше обеспечи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юдей материальным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лагами из ограниченног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оличества ресурсов, которым о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сполагает. А каждый потребитель должен ста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рациональным потребителе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8" name="Picture 5" descr="j0199283"/>
          <p:cNvPicPr/>
          <p:nvPr/>
        </p:nvPicPr>
        <p:blipFill>
          <a:blip r:embed="rId2"/>
          <a:stretch/>
        </p:blipFill>
        <p:spPr>
          <a:xfrm>
            <a:off x="7093080" y="2349360"/>
            <a:ext cx="1841400" cy="16542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j0234266"/>
          <p:cNvPicPr/>
          <p:nvPr/>
        </p:nvPicPr>
        <p:blipFill>
          <a:blip r:embed="rId3"/>
          <a:stretch/>
        </p:blipFill>
        <p:spPr>
          <a:xfrm>
            <a:off x="0" y="1773360"/>
            <a:ext cx="2089080" cy="20365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9" descr="j0292152"/>
          <p:cNvPicPr/>
          <p:nvPr/>
        </p:nvPicPr>
        <p:blipFill>
          <a:blip r:embed="rId4"/>
          <a:stretch/>
        </p:blipFill>
        <p:spPr>
          <a:xfrm>
            <a:off x="7236000" y="4724280"/>
            <a:ext cx="1538280" cy="18259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0" descr="j0251871"/>
          <p:cNvPicPr/>
          <p:nvPr/>
        </p:nvPicPr>
        <p:blipFill>
          <a:blip r:embed="rId5"/>
          <a:stretch/>
        </p:blipFill>
        <p:spPr>
          <a:xfrm>
            <a:off x="6877080" y="836640"/>
            <a:ext cx="190512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178920" y="333360"/>
            <a:ext cx="87138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Рациональный потребител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ратит деньги только на то, в чем он действительно нуждается, что приносит ему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ибольшую пользу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циональный потребитель – очень разборчивый человек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3" name="Picture 4" descr="рациональный потребитель"/>
          <p:cNvPicPr/>
          <p:nvPr/>
        </p:nvPicPr>
        <p:blipFill>
          <a:blip r:embed="rId1"/>
          <a:stretch/>
        </p:blipFill>
        <p:spPr>
          <a:xfrm>
            <a:off x="4643280" y="1989000"/>
            <a:ext cx="4294440" cy="31752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j0300840"/>
          <p:cNvPicPr/>
          <p:nvPr/>
        </p:nvPicPr>
        <p:blipFill>
          <a:blip r:embed="rId2"/>
          <a:stretch/>
        </p:blipFill>
        <p:spPr>
          <a:xfrm>
            <a:off x="971640" y="2781360"/>
            <a:ext cx="259236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Задача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спомни, какие покупки ты и твоя семья сделала за последнюю неделю. Выпиши эти покупки с их стоимостью. Распредели покупки по следующим группам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468360" y="2781360"/>
          <a:ext cx="8229600" cy="2590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еобходим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Желатель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естиж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Text Box 38"/>
          <p:cNvSpPr/>
          <p:nvPr/>
        </p:nvSpPr>
        <p:spPr>
          <a:xfrm>
            <a:off x="395280" y="5516640"/>
            <a:ext cx="849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делай вывод, какой ты покупатель рациональный или нет. Объясни почему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94920" y="1483920"/>
            <a:ext cx="849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Задач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полни таблицу «Важность отдельных товаров». В графе «Товары» перечисли товары, которые удовлетворяют данную потребность; в графе «Необходимость» условными обозначениями «+», «-» или «+/-» отметь необходимость данного товара для удовлетворения этой потребности: «+» - товар нельзя заменить никаким другим товаром (например: хлеб); «-» - товар имеет заменитель (например, ветчина – мясо); «+/-» - товар заменить нечем только в определенных случаях (например, лимон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395280" y="4292640"/>
          <a:ext cx="8424720" cy="2378160"/>
        </p:xfrm>
        <a:graphic>
          <a:graphicData uri="http://schemas.openxmlformats.org/drawingml/2006/table">
            <a:tbl>
              <a:tblPr/>
              <a:tblGrid>
                <a:gridCol w="2809800"/>
                <a:gridCol w="2805120"/>
                <a:gridCol w="2809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треб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ова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еобходим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Физиологичес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оциаль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 уважен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 безопас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 самовыражен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Домашняя работ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23640" y="1600200"/>
            <a:ext cx="8569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л 12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ведите примеры некоторых своих потребностей. Какие блага (товары и услуги) нужны, чтобы их удовлетворить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2282400" y="1556280"/>
            <a:ext cx="72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§ 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Задание экономиста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68360" y="1125360"/>
          <a:ext cx="8229600" cy="44834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упленный това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то покуп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де покуп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ена това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етрад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чебн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невн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ен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уч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аранда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иней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езин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AutoShape 73">
            <a:hlinkClick r:id="rId1" action="ppaction://hlinksldjump"/>
          </p:cNvPr>
          <p:cNvSpPr/>
          <p:nvPr/>
        </p:nvSpPr>
        <p:spPr>
          <a:xfrm>
            <a:off x="6156360" y="5950080"/>
            <a:ext cx="2808360" cy="620640"/>
          </a:xfrm>
          <a:prstGeom prst="flowChartAlternateProcess">
            <a:avLst/>
          </a:prstGeom>
          <a:gradFill rotWithShape="0">
            <a:gsLst>
              <a:gs pos="0">
                <a:srgbClr val="99ccff"/>
              </a:gs>
              <a:gs pos="100000">
                <a:srgbClr val="d0dae2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Задание экономиста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68360" y="1268280"/>
          <a:ext cx="8229600" cy="44830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упленный това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то покуп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де покуп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ена това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етрад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 рынк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 р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чебн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а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агаз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0 р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невн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 рынк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 р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ен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 рынк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 р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уч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агаз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 р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аранда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агаз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 р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иней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агаз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 р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езин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агаз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 р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AutoShape 66"/>
          <p:cNvSpPr/>
          <p:nvPr/>
        </p:nvSpPr>
        <p:spPr>
          <a:xfrm>
            <a:off x="1763640" y="2205000"/>
            <a:ext cx="289080" cy="2160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AutoShape 67"/>
          <p:cNvSpPr/>
          <p:nvPr/>
        </p:nvSpPr>
        <p:spPr>
          <a:xfrm>
            <a:off x="2050920" y="2637000"/>
            <a:ext cx="289080" cy="21564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AutoShape 68"/>
          <p:cNvSpPr/>
          <p:nvPr/>
        </p:nvSpPr>
        <p:spPr>
          <a:xfrm>
            <a:off x="2050920" y="2205000"/>
            <a:ext cx="289080" cy="2160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AutoShape 69"/>
          <p:cNvSpPr/>
          <p:nvPr/>
        </p:nvSpPr>
        <p:spPr>
          <a:xfrm>
            <a:off x="1763640" y="3141720"/>
            <a:ext cx="289080" cy="2160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AutoShape 70"/>
          <p:cNvSpPr/>
          <p:nvPr/>
        </p:nvSpPr>
        <p:spPr>
          <a:xfrm>
            <a:off x="2050920" y="3141720"/>
            <a:ext cx="289080" cy="2160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AutoShape 71"/>
          <p:cNvSpPr/>
          <p:nvPr/>
        </p:nvSpPr>
        <p:spPr>
          <a:xfrm>
            <a:off x="2050920" y="3573360"/>
            <a:ext cx="289080" cy="2160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AutoShape 72"/>
          <p:cNvSpPr/>
          <p:nvPr/>
        </p:nvSpPr>
        <p:spPr>
          <a:xfrm>
            <a:off x="1763640" y="3573360"/>
            <a:ext cx="289080" cy="2160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AutoShape 73"/>
          <p:cNvSpPr/>
          <p:nvPr/>
        </p:nvSpPr>
        <p:spPr>
          <a:xfrm>
            <a:off x="2050920" y="4076640"/>
            <a:ext cx="289080" cy="2160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AutoShape 74"/>
          <p:cNvSpPr/>
          <p:nvPr/>
        </p:nvSpPr>
        <p:spPr>
          <a:xfrm>
            <a:off x="2050920" y="4508640"/>
            <a:ext cx="289080" cy="21564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AutoShape 75"/>
          <p:cNvSpPr/>
          <p:nvPr/>
        </p:nvSpPr>
        <p:spPr>
          <a:xfrm>
            <a:off x="2050920" y="4941720"/>
            <a:ext cx="289080" cy="2160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AutoShape 76"/>
          <p:cNvSpPr/>
          <p:nvPr/>
        </p:nvSpPr>
        <p:spPr>
          <a:xfrm>
            <a:off x="2050920" y="5373720"/>
            <a:ext cx="289080" cy="2160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8" descr="j0205462"/>
          <p:cNvPicPr/>
          <p:nvPr/>
        </p:nvPicPr>
        <p:blipFill>
          <a:blip r:embed="rId1"/>
          <a:stretch/>
        </p:blipFill>
        <p:spPr>
          <a:xfrm>
            <a:off x="7378560" y="5100480"/>
            <a:ext cx="1765440" cy="1757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j0183328"/>
          <p:cNvPicPr/>
          <p:nvPr/>
        </p:nvPicPr>
        <p:blipFill>
          <a:blip r:embed="rId2"/>
          <a:stretch/>
        </p:blipFill>
        <p:spPr>
          <a:xfrm>
            <a:off x="7000920" y="1357200"/>
            <a:ext cx="1806480" cy="18147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Задача 1: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В магазине рядом со школой альбом для рисования стоит 20 рублей, а в магазине через 10 автобусных остановок – 17 рублей. В каком магазине покупка альбома обойдется дешевле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95280" y="2825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хотя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альбом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для рисования в магазине рядом со школой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стоит дорож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его с точки зрения экономики выгоднее купит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так как на приобретение более дешевого альбома придется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отратить врем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на дорогу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(10 остановок) и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деньги на дорогу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468360" y="256536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Ответ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5"/>
          <p:cNvSpPr/>
          <p:nvPr/>
        </p:nvSpPr>
        <p:spPr>
          <a:xfrm>
            <a:off x="571680" y="1643040"/>
            <a:ext cx="745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лобус продается в единственном магазине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Задача 2: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971640" y="2349360"/>
            <a:ext cx="62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214200" y="100008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каком случае цена на глобус увеличится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571680" y="2214720"/>
            <a:ext cx="745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лобус продается в каждом книжном магазине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571680" y="2786040"/>
            <a:ext cx="85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лобус стало модно ставить на письменный стол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571680" y="3286080"/>
            <a:ext cx="857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лобус можно заменить картой мира, занимающей     мало мест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571680" y="4143240"/>
            <a:ext cx="857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 глобусе поставил свою подпись Президент Российской Федерации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Picture 9" descr="глобус"/>
          <p:cNvPicPr/>
          <p:nvPr/>
        </p:nvPicPr>
        <p:blipFill>
          <a:blip r:embed="rId1"/>
          <a:stretch/>
        </p:blipFill>
        <p:spPr>
          <a:xfrm>
            <a:off x="7396200" y="0"/>
            <a:ext cx="1747800" cy="2071800"/>
          </a:xfrm>
          <a:prstGeom prst="rect">
            <a:avLst/>
          </a:prstGeom>
          <a:ln w="0">
            <a:noFill/>
          </a:ln>
        </p:spPr>
      </p:pic>
      <p:sp>
        <p:nvSpPr>
          <p:cNvPr id="162" name="TextBox 14"/>
          <p:cNvSpPr/>
          <p:nvPr/>
        </p:nvSpPr>
        <p:spPr>
          <a:xfrm>
            <a:off x="214200" y="5072040"/>
            <a:ext cx="892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ывод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Цен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– это то, что платит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требитель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 Если его цена не устраивает, он ищет такой же, но более дешевый товар либо другой товар, отвечающий тем же самым требования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" dur="2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000"/>
                            </p:stCondLst>
                            <p:childTnLst>
                              <p:par>
                                <p:cTn id="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50104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7840" indent="-177840" algn="just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Кто такой потребитель и какую роль он играет в экономике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79280" y="1557360"/>
            <a:ext cx="8715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отребитель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– это такой участник экономики, которым может быть отдельный человек, целое предприятие и даже государство, имеющий материальные и духовные потребности и возможности их удовлетворить, т. е. средства для покупки товаров и услуг, и, наконец, желание и умение использовать их п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значению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Picture 7" descr="j0149481"/>
          <p:cNvPicPr/>
          <p:nvPr/>
        </p:nvPicPr>
        <p:blipFill>
          <a:blip r:embed="rId1"/>
          <a:stretch/>
        </p:blipFill>
        <p:spPr>
          <a:xfrm>
            <a:off x="6999120" y="4869000"/>
            <a:ext cx="214488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9" descr="j0285360"/>
          <p:cNvPicPr/>
          <p:nvPr/>
        </p:nvPicPr>
        <p:blipFill>
          <a:blip r:embed="rId1"/>
          <a:stretch/>
        </p:blipFill>
        <p:spPr>
          <a:xfrm>
            <a:off x="6886440" y="0"/>
            <a:ext cx="2257560" cy="278136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одумай: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94920" y="907920"/>
            <a:ext cx="837396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ткуда заводы и фабрик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знают, какую продукцию им надо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ыпускать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395280" y="2637000"/>
            <a:ext cx="7991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м об этом напоминает потребитель. Он покупает только нужные вещи, и если объем покупок увеличивается, то это является для производителей сигналом к действию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395280" y="5229360"/>
            <a:ext cx="849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отребителя в первую очередь характеризует наличие потребносте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Вспомним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«Сказку о рыбаке и рыбке»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А.С. Пушкин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50560" y="2060280"/>
            <a:ext cx="84358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олотая рыбка исполнял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желания жадной старухи, н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том уплыла от нее и старика, поняв, чт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отребност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людей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безграничны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Picture 5" descr="золотая рыбка сказка"/>
          <p:cNvPicPr/>
          <p:nvPr/>
        </p:nvPicPr>
        <p:blipFill>
          <a:blip r:embed="rId1"/>
          <a:stretch/>
        </p:blipFill>
        <p:spPr>
          <a:xfrm>
            <a:off x="5940360" y="1268280"/>
            <a:ext cx="2952720" cy="21481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старуха"/>
          <p:cNvPicPr/>
          <p:nvPr/>
        </p:nvPicPr>
        <p:blipFill>
          <a:blip r:embed="rId2"/>
          <a:stretch/>
        </p:blipFill>
        <p:spPr>
          <a:xfrm>
            <a:off x="324000" y="4365720"/>
            <a:ext cx="319248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50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Давайте вспомним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684360" y="1700280"/>
            <a:ext cx="813564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отребност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– это надобность, нужда в чем-либо, требующая удовлетворен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826920" y="4365720"/>
            <a:ext cx="7993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Физиологические, потребность в безопасности, социальные, потребность в уважении, потребность в самореализаци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104292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684360" y="1052640"/>
            <a:ext cx="82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то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означает термин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«потребность»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611280" y="3500280"/>
            <a:ext cx="792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ие виды потребностей вы знаете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02:08:58Z</dcterms:created>
  <dc:creator>Sviridenkona</dc:creator>
  <dc:description/>
  <dc:language>en-US</dc:language>
  <cp:lastModifiedBy>Sviridenkona</cp:lastModifiedBy>
  <dcterms:modified xsi:type="dcterms:W3CDTF">2010-02-25T02:13:27Z</dcterms:modified>
  <cp:revision>44</cp:revision>
  <dc:subject/>
  <dc:title>Школа как потребитель</dc:title>
</cp:coreProperties>
</file>